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B21-8424-4190-A6A5-7B9B95D6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565-40B3-4F2D-B414-05663CFB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295-E76D-4872-BA6F-708CAE7D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6C7-B93B-40C5-BBBC-ECF142EE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B67-38B0-4CDC-886D-CA1F2C74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D27-DF38-403F-A4FB-50CF67F9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32C-8BC1-4593-A084-0D5591F8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1C3-46BD-4DEE-B25D-956B2F6F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7EB-6817-474B-BCCB-E083F305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354-8099-4880-9875-15AD9F3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F2E-D321-40B8-AA6B-F363960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F5F-D8FA-4632-9C0F-611A1A5B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599-C588-4FB5-A544-DE138AF8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4267080" cy="707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nda, Sept.  16 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No Homework`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495680" y="2209680"/>
            <a:ext cx="43434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the people of the United States, in ord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Form a more perfec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establish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sure domestic tranqu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provide for the common def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495288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nly the gov. has the power to declare war on anoth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congressforkids.net/images/stroke_constitution.gif"/>
          <p:cNvPicPr/>
          <p:nvPr/>
        </p:nvPicPr>
        <p:blipFill>
          <a:blip r:embed="rId2"/>
          <a:srcRect l="77244" t="0" r="0" b="-5252"/>
          <a:stretch/>
        </p:blipFill>
        <p:spPr>
          <a:xfrm>
            <a:off x="5562720" y="-23760"/>
            <a:ext cx="1904760" cy="2309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congressforkids.net/images/writconstitution.jpg"/>
          <p:cNvPicPr/>
          <p:nvPr/>
        </p:nvPicPr>
        <p:blipFill>
          <a:blip r:embed="rId3"/>
          <a:stretch/>
        </p:blipFill>
        <p:spPr>
          <a:xfrm>
            <a:off x="0" y="4267080"/>
            <a:ext cx="4317840" cy="2590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4876920" y="4191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ans: the gov. has the power to keep the pe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0" y="1676520"/>
            <a:ext cx="4267080" cy="177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9-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Bring up your focus document; then,  minimize and bring up georamsey wiki and wait for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105520" y="0"/>
            <a:ext cx="4343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the people of the United States, in ord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Form a more perfect Union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5105520" y="1171440"/>
            <a:ext cx="373356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establish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sure domestic tranqu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for the common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Promote the general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constitution_signing"/>
          <p:cNvPicPr/>
          <p:nvPr/>
        </p:nvPicPr>
        <p:blipFill>
          <a:blip r:embed="rId2"/>
          <a:srcRect l="31190" t="10631" r="0" b="10631"/>
          <a:stretch/>
        </p:blipFill>
        <p:spPr>
          <a:xfrm>
            <a:off x="0" y="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http://www.mrdonn.org/geo_map_usa_blank.gif"/>
          <p:cNvPicPr/>
          <p:nvPr/>
        </p:nvPicPr>
        <p:blipFill>
          <a:blip r:embed="rId3"/>
          <a:stretch/>
        </p:blipFill>
        <p:spPr>
          <a:xfrm>
            <a:off x="380880" y="3809880"/>
            <a:ext cx="4267440" cy="2724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5"/>
          <p:cNvSpPr/>
          <p:nvPr/>
        </p:nvSpPr>
        <p:spPr>
          <a:xfrm>
            <a:off x="5334120" y="34290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and secure the blessings of liberty to ourselves and our post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5181480" y="45720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do ordain and establish—this Constitution for the United State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143160" y="3344760"/>
          <a:ext cx="2857680" cy="16848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4"/>
          <p:cNvSpPr/>
          <p:nvPr/>
        </p:nvSpPr>
        <p:spPr>
          <a:xfrm>
            <a:off x="304920" y="4536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  <a:ea typeface="Calibri"/>
              </a:rPr>
              <a:t>The Declaration of Independence 17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animous Declaration of the Thirteen 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24912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old these _________ to be ______________, that all me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d ____________, that they are endowed by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_ with certain unalienable ___________, that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se are ________, ___________ and the pursui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.  That to secure these rights,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e instituted among men, deriving their just power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 of the gover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l_fi" descr="http://2.bp.blogspot.com/-YZMvN7u7eps/ThH9xuvg94I/AAAAAAAAGYk/9snIp0NDoE8/s400/The+Founding+Fathers+are+depicted+in+the+painting+Declaration+of+Independence.jpeg"/>
          <p:cNvPicPr/>
          <p:nvPr/>
        </p:nvPicPr>
        <p:blipFill>
          <a:blip r:embed="rId2"/>
          <a:stretch/>
        </p:blipFill>
        <p:spPr>
          <a:xfrm>
            <a:off x="3429000" y="685800"/>
            <a:ext cx="2247840" cy="1685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981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426708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ev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12952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45720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579132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15238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2286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64008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2286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7:51:36Z</dcterms:created>
  <dc:creator>Selena Ramsey</dc:creator>
  <dc:description/>
  <dc:language>en-US</dc:language>
  <cp:lastModifiedBy>poweruser</cp:lastModifiedBy>
  <dcterms:modified xsi:type="dcterms:W3CDTF">2011-09-19T12:45:26Z</dcterms:modified>
  <cp:revision>58</cp:revision>
  <dc:subject/>
  <dc:title>Agenda Sept. 6, 2005</dc:title>
</cp:coreProperties>
</file>